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00E-7EBD-496A-9F67-71497A07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9D1-9EDA-4F1C-82A2-24A8C6B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DCF-CE54-41AA-AFE0-51E87A6A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9E2-2996-46FB-8F35-305D8ADA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A074-CFCF-4B5D-857B-61DBA958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D3A-C897-4A26-B7B9-D0F75FA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32FF-6140-4CE8-B923-6F1343E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F54E-8C20-47AE-9FD3-43CE2199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C764-C79C-481E-904B-D84EC3B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B8E-CB70-4BB0-AB66-ADFC3F2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06D8-228E-42B5-AA28-60AC247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7B8-40AE-4CD5-9AAC-7674C75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1614-E533-47EC-80B4-F246B057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52C2-7902-409B-93CA-631C095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658D-F560-4F3D-B607-69B7D3A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F99-9D46-400F-A9D3-7E21171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0BD-5749-4BE9-8E65-A7532DE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51E-E104-4D0F-8EC2-C4E94D4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336-4C76-4F76-8918-57B4F93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D37-9375-4EE7-8230-DBBD88F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805-E91C-4AEE-9BA7-46909BE6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DBD-74A6-43A5-A456-94E535A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028-0F4D-466C-9329-56DC643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EEC-DCE5-449E-B94A-C8839CC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664D-5F9E-4DF1-BCB4-0A7080CA660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6D8-80F2-4E8F-9388-707CE8D7462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Problem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Kunstler Script"/>
              </a:rPr>
              <a:t>By Jason Xia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dvantages vs dis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0:50:55Z</dcterms:created>
  <dc:creator>QPS</dc:creator>
  <dc:description/>
  <dc:language>en-US</dc:language>
  <cp:lastModifiedBy>QPS</cp:lastModifiedBy>
  <dcterms:modified xsi:type="dcterms:W3CDTF">2010-04-21T01:23:06Z</dcterms:modified>
  <cp:revision>2</cp:revision>
  <dc:subject/>
  <dc:title>Slide 1</dc:title>
</cp:coreProperties>
</file>